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8E5-AA9E-472E-A679-DABA8836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2C8-B1CA-4448-9B67-DD7FACF1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E9D-E6E3-4F9C-8A14-1C82FEB1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BCC-9CC1-4A8E-9CE6-0D6E6949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A586-26DD-4CF5-9969-EC3F9476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B99D-0ACB-41FF-A719-48FE8AA6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E54D-0AA6-4945-B788-F08A9148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7F1B-36EE-480F-AF39-B0C58761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404D-077D-4CCD-A988-7334E699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C7E7-14EE-441C-9519-0799A117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68E6-CE9E-4A07-A5E5-08BB4C7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269-D6AA-4A18-A135-7D957815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0FCA-C3C3-4C26-9258-3AB75E3E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8CE7-7BBA-4AA5-97F6-BF6EB9BA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2202-4BD0-434C-BE56-6D9A4260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6BD0-954A-4E87-A77A-D85917F0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85D3-2DF2-433F-ACB9-9E5B8F18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1BCB-9915-4810-8431-E366FA20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71AE-660F-4B25-AC55-E1AA9203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0CD6-C4E5-4041-B637-EEE53519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B40C-C56A-42AA-A08A-DB3BE998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618CE-088E-4F0D-A64C-26E7A4C3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61F-A363-484B-81E7-4286D543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E37C2-4B6D-45E2-A4BC-6008A772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E233-8436-4B9E-96C1-1AC6A245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8A65B-EA64-4D4B-9A87-954A0BC5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1E5CE-C3F6-4696-A466-C50B4BF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C170-F05C-48A5-A59F-0820DC6B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DEF3C-1A69-4868-8170-DB5FDF9B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9758-4F59-4C00-BE3A-2C73FB9A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8A15C-9DD1-4A6D-9B65-D186D2AE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9699D-82A2-4C2F-8D27-67B6910F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7801-D768-4136-B4EA-614FF2EA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B99-BF2E-46A8-9A5C-D8B40A0F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89BB1-A53D-4FDB-9F16-A6B6AC36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A5FED-B6EF-421D-B2B7-6D735A90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03522-1E39-4A17-93E1-E85A0073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97A9-A40E-429E-AA63-1051DE9C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5DA8-63E7-4F35-B60E-B1E9CD3C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44A62-33CB-4DBD-B2A2-4CDD291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9A43B-C3E4-4389-A3F5-11700246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83A9D-F206-46B2-86C1-73330E91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ACE8-B6A2-4454-95E8-2340D441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872F-14AB-4A8C-89E6-7A2838C8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D30-68B0-4AB8-BD22-D1E8D819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C9DBD-46C3-413B-B863-B514051D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3476B-9C1B-4DCA-8E6A-DD25FDAB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25974-EFF0-460D-B08F-E348AFDE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EB5D2-EC4B-434B-9AB6-14B8B4E2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A190-AC7C-4B9F-B75D-34B40D77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2134-811D-4D4C-ADAA-B447D548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10D1-B249-49D4-BBB0-F41A2EB6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6809F-5734-43B4-8BAB-BDBB90BE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9E161-FA99-4DA7-9785-777DCC3A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702F4-6888-42EE-8187-604880A1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D62-E280-45E4-B039-1457EFDC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CA8E-0335-4211-AEFE-2D18E2CF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856-DC89-497A-BEE1-C86CD78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2BA-4952-49E7-8D3A-0102980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208-E447-48B1-A544-BE87D53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af1">
              <a:alpha val="33000"/>
            </a:srgbClr>
          </a:solidFill>
          <a:ln cap="rnd" w="3240">
            <a:solidFill>
              <a:srgbClr val="003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6c2e0"/>
            </a:solidFill>
            <a:miter/>
          </a:ln>
          <a:effectLst>
            <a:outerShdw dist="12600" dir="5400000" blurRad="0" rotWithShape="0">
              <a:srgbClr val="02316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78D6-B2BB-4627-BB73-8D441A4EDCCB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af1">
              <a:alpha val="33000"/>
            </a:srgbClr>
          </a:solidFill>
          <a:ln cap="rnd" w="3240">
            <a:solidFill>
              <a:srgbClr val="003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6c2e0"/>
            </a:solidFill>
            <a:miter/>
          </a:ln>
          <a:effectLst>
            <a:outerShdw dist="12600" dir="5400000" blurRad="0" rotWithShape="0">
              <a:srgbClr val="02316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BA34-DC13-4A50-BDBE-779CD82F8D47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af1">
              <a:alpha val="33000"/>
            </a:srgbClr>
          </a:solidFill>
          <a:ln cap="rnd" w="3240">
            <a:solidFill>
              <a:srgbClr val="003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6c2e0"/>
            </a:solidFill>
            <a:miter/>
          </a:ln>
          <a:effectLst>
            <a:outerShdw dist="12600" dir="5400000" blurRad="0" rotWithShape="0">
              <a:srgbClr val="02316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913F-C968-4281-B1FF-AD5E95D3A3AD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af1">
              <a:alpha val="33000"/>
            </a:srgbClr>
          </a:solidFill>
          <a:ln cap="rnd" w="3240">
            <a:solidFill>
              <a:srgbClr val="003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6c2e0"/>
            </a:solidFill>
            <a:miter/>
          </a:ln>
          <a:effectLst>
            <a:outerShdw dist="12600" dir="5400000" blurRad="0" rotWithShape="0">
              <a:srgbClr val="02316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8381-0CCA-49C5-B23C-14BD9CDC6FAC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af1">
              <a:alpha val="33000"/>
            </a:srgbClr>
          </a:solidFill>
          <a:ln cap="rnd" w="3240">
            <a:solidFill>
              <a:srgbClr val="003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6c2e0"/>
            </a:solidFill>
            <a:miter/>
          </a:ln>
          <a:effectLst>
            <a:outerShdw dist="12600" dir="5400000" blurRad="0" rotWithShape="0">
              <a:srgbClr val="02316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0040a4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1f497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1DBF-BC35-4B76-A080-AC8ED5A0CB55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ics4learning.com/" TargetMode="External"/><Relationship Id="rId2" Type="http://schemas.openxmlformats.org/officeDocument/2006/relationships/hyperlink" Target="http://school.discoveryeducation.com/clipart/" TargetMode="External"/><Relationship Id="rId3" Type="http://schemas.openxmlformats.org/officeDocument/2006/relationships/hyperlink" Target="http://www.photos8.com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/coop/cse?cx=004388073182546908344%3Afo-p7bauptg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idrex.org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ids.yahoo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fseek.com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WHPf00Jkqg" TargetMode="External"/><Relationship Id="rId2" Type="http://schemas.openxmlformats.org/officeDocument/2006/relationships/hyperlink" Target="http://kathyschrock.net/rbs3k/boolean/" TargetMode="External"/><Relationship Id="rId3" Type="http://schemas.openxmlformats.org/officeDocument/2006/relationships/hyperlink" Target="http://www.lib.monash.edu.au/vl/sstrat/sstrcon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ebquest.sdsu.edu/searching/fournets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oodletools.com/noodlequest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www.britannica.com/" TargetMode="External"/><Relationship Id="rId3" Type="http://schemas.openxmlformats.org/officeDocument/2006/relationships/hyperlink" Target="http://www.worldatlas.com/" TargetMode="External"/><Relationship Id="rId4" Type="http://schemas.openxmlformats.org/officeDocument/2006/relationships/hyperlink" Target="http://www.ipl.org/" TargetMode="External"/><Relationship Id="rId5" Type="http://schemas.openxmlformats.org/officeDocument/2006/relationships/hyperlink" Target="http://lii.org/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irtualsalt.com/search.htm" TargetMode="External"/><Relationship Id="rId2" Type="http://schemas.openxmlformats.org/officeDocument/2006/relationships/hyperlink" Target="http://www.noodletools.com/debbie/literacies/information/5locate/adviceengine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ddf"/>
                </a:solidFill>
                <a:latin typeface="Gill Sans MT"/>
              </a:rPr>
              <a:t>Sizzling Search Strategies for</a:t>
            </a:r>
            <a:br>
              <a:rPr sz="4400"/>
            </a:br>
            <a:r>
              <a:rPr b="0" lang="en-US" sz="4400" spc="-1" strike="noStrike">
                <a:solidFill>
                  <a:srgbClr val="f0eddf"/>
                </a:solidFill>
                <a:latin typeface="Gill Sans MT"/>
              </a:rPr>
              <a:t> Lower and Middle School</a:t>
            </a:r>
            <a:endParaRPr b="0" lang="en-US" sz="44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905120" y="4191120"/>
            <a:ext cx="5943600" cy="620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Lakeview Academy Summer Institute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Photos and Clip Ar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47920" y="13716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Pics4learning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2"/>
              </a:rPr>
              <a:t>Discovery Education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3"/>
              </a:rPr>
              <a:t>Photos8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reate Your Own Search Engine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34960" y="1447920"/>
            <a:ext cx="7499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Google Custom Search Engin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943600" cy="37148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"/>
          <p:cNvSpPr/>
          <p:nvPr/>
        </p:nvSpPr>
        <p:spPr>
          <a:xfrm>
            <a:off x="1676520" y="6172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y Lower School Search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Lower School Search Engine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pic>
        <p:nvPicPr>
          <p:cNvPr id="283" name="Picture 7" descr="C:\Documents and Settings\melinda.reinhardt\Local Settings\Temporary Internet Files\Content.IE5\TQ6IRJMO\MCj02304250000[1].wmf"/>
          <p:cNvPicPr/>
          <p:nvPr/>
        </p:nvPicPr>
        <p:blipFill>
          <a:blip r:embed="rId1"/>
          <a:stretch/>
        </p:blipFill>
        <p:spPr>
          <a:xfrm>
            <a:off x="1752480" y="1600200"/>
            <a:ext cx="5867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28600"/>
            <a:ext cx="749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General Searches</a:t>
            </a:r>
            <a:br>
              <a:rPr sz="4300"/>
            </a:br>
            <a:r>
              <a:rPr b="0" lang="en-US" sz="2800" spc="-1" strike="noStrike">
                <a:solidFill>
                  <a:srgbClr val="f0eddf"/>
                </a:solidFill>
                <a:latin typeface="Gill Sans MT"/>
              </a:rPr>
              <a:t>(Google Safe Search for Kids)</a:t>
            </a:r>
            <a:endParaRPr b="0" lang="en-US" sz="28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371600" y="6019560"/>
            <a:ext cx="7562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www.kidrex.org/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8277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434960" y="5791320"/>
            <a:ext cx="7499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kids.yahoo.com/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655308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Academic Search Engine</a:t>
            </a:r>
            <a:br>
              <a:rPr sz="4300"/>
            </a:br>
            <a:r>
              <a:rPr b="0" lang="en-US" sz="2400" spc="-1" strike="noStrike">
                <a:solidFill>
                  <a:srgbClr val="f0eddf"/>
                </a:solidFill>
                <a:latin typeface="Gill Sans MT"/>
              </a:rPr>
              <a:t>(locates relevant academic search results from web pages, books, encyclopedias and journals) </a:t>
            </a:r>
            <a:endParaRPr b="0" lang="en-US" sz="24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34960" y="6019560"/>
            <a:ext cx="7499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www.refseek.com/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4166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Finding Specific Information</a:t>
            </a:r>
            <a:endParaRPr b="0" lang="en-US" sz="3600" spc="-1" strike="noStrike">
              <a:solidFill>
                <a:srgbClr val="f0eddf"/>
              </a:solidFill>
              <a:latin typeface="Gill Sans MT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7162920" cy="501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1523880" y="640080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kidsclick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371600" y="5791320"/>
            <a:ext cx="7562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http://www.factmonster.com/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7239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434960" y="594324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ttp://www.askkids.com/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980400" cy="43624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160020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 a Ques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Middle School Search Engine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pic>
        <p:nvPicPr>
          <p:cNvPr id="301" name="Picture 2" descr="C:\Documents and Settings\melinda.reinhardt\Local Settings\Temporary Internet Files\Content.IE5\XAC8R372\MCj03481410000[1].wmf"/>
          <p:cNvPicPr/>
          <p:nvPr/>
        </p:nvPicPr>
        <p:blipFill>
          <a:blip r:embed="rId1"/>
          <a:stretch/>
        </p:blipFill>
        <p:spPr>
          <a:xfrm>
            <a:off x="1905120" y="1600200"/>
            <a:ext cx="55623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What we will accomplish: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Review basic search tips and strategi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Become aware of the many resources available to assist with information gathering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Gather resources for teaching students to research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reate your own search engine!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Review online tuto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ake home lesson plan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0eddf"/>
                </a:solidFill>
                <a:latin typeface="Gill Sans MT"/>
              </a:rPr>
              <a:t>Meta Search Engines</a:t>
            </a:r>
            <a:br>
              <a:rPr sz="3900"/>
            </a:br>
            <a:r>
              <a:rPr b="0" lang="en-US" sz="2500" spc="-1" strike="noStrike">
                <a:solidFill>
                  <a:srgbClr val="f0eddf"/>
                </a:solidFill>
                <a:latin typeface="Gill Sans MT"/>
              </a:rPr>
              <a:t>(Combines Data from more than one Engine)</a:t>
            </a:r>
            <a:endParaRPr b="0" lang="en-US" sz="2500" spc="-1" strike="noStrike">
              <a:solidFill>
                <a:srgbClr val="f0eddf"/>
              </a:solidFill>
              <a:latin typeface="Gill Sans MT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933960" cy="43340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4"/>
          <p:cNvSpPr/>
          <p:nvPr/>
        </p:nvSpPr>
        <p:spPr>
          <a:xfrm>
            <a:off x="129528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triplify.com/ -  Google, Yahoo, MSN L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434960" y="51051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http://keyboardr.com/–search tool with predictive text that puts Google, Google Images, Wikipedia &amp; You Tube search all on one page.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4306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Visual Search Engine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371600" y="548604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</a:rPr>
              <a:t>http://www.search-cube.com/ - a new way to look at multiple results.  View 6 pages of results in one cube.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400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434960" y="5866920"/>
            <a:ext cx="74995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http://www.searchme.com/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6898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0eddf"/>
                </a:solidFill>
                <a:latin typeface="Gill Sans MT"/>
              </a:rPr>
              <a:t>Interface Mapping Metasearch  Engine</a:t>
            </a:r>
            <a:endParaRPr b="0" lang="en-US" sz="39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371600" y="6095880"/>
            <a:ext cx="7562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http://www.kartoo.com/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934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Ask a Question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434960" y="1447560"/>
            <a:ext cx="7499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Answer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72388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Evaluating Web Site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ow to Critically Evaluat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ample Workshee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Online Tutorial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5638680"/>
            <a:ext cx="7499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ttp://www.kidsclick.org/wows/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202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Online Tutorial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eaching Internet Research Strategi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Other Lesson Plans</a:t>
            </a: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e handou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urriculum Guide (handout)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PreK –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ill Sans MT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- preloaded/predetermined websit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ill Sans MT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-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ill Sans MT"/>
              </a:rPr>
              <a:t>th 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- learn what the WWW is, what search engines are and how to search effectively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Middle School – student directed research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eddf"/>
                </a:solidFill>
                <a:latin typeface="Gill Sans MT"/>
              </a:rPr>
              <a:t>Search Strategies (handout)</a:t>
            </a:r>
            <a:endParaRPr b="0" lang="en-US" sz="48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371600" y="2057400"/>
            <a:ext cx="7562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Basic search tips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Gill Sans MT"/>
                <a:hlinkClick r:id="rId2"/>
              </a:rPr>
              <a:t>Boolean explained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Gill Sans MT"/>
                <a:hlinkClick r:id="rId3"/>
              </a:rPr>
              <a:t>Develop a search strategy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Google Advanced Search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34600" y="5791320"/>
            <a:ext cx="7480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webquest.sdsu.edu/searching/fournets.htm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1600200" y="1362240"/>
            <a:ext cx="6934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456840"/>
            <a:ext cx="749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Gill Sans MT"/>
              </a:rPr>
              <a:t>NETS Standard 3 – Research and Information Fluency</a:t>
            </a:r>
            <a:br>
              <a:rPr sz="3900"/>
            </a:br>
            <a:endParaRPr b="0" lang="en-US" sz="39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tudents apply digital tools to gather, evaluate,  and use information.  Students: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Gill Sans MT"/>
              </a:rPr>
              <a:t>plan strategies to guide inquir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Gill Sans MT"/>
              </a:rPr>
              <a:t>locate, organize, analyze, evaluate, synthesize, and ethically use information from a variety of sources and media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Gill Sans MT"/>
              </a:rPr>
              <a:t>Evaluate and select information sources and digital tools based on the appropriateness to specific task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Gill Sans MT"/>
              </a:rPr>
              <a:t>process data and report resul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Source Awarenes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47560" y="15235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Noodletoo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hoices of tools: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arch Engin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Encyclopedia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Online Librari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Almanac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Photograph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Online Encyclopedias &amp; Librarie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2"/>
              </a:rPr>
              <a:t>Encyclopedia Britannic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3"/>
              </a:rPr>
              <a:t>World Atla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4"/>
              </a:rPr>
              <a:t>Internet Public Library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5"/>
              </a:rPr>
              <a:t>Librarians’ Internet Index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WWW Research Tool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Virtualsal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2"/>
              </a:rPr>
              <a:t>NoodleTools 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– Choose the best search for your information need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7:46:50Z</dcterms:created>
  <dc:creator>Fac - Montgomery,Bruce</dc:creator>
  <dc:description/>
  <dc:language>en-US</dc:language>
  <cp:lastModifiedBy>Fac - Montgomery,Bruce</cp:lastModifiedBy>
  <dcterms:modified xsi:type="dcterms:W3CDTF">2009-07-26T22:31:15Z</dcterms:modified>
  <cp:revision>162</cp:revision>
  <dc:subject/>
  <dc:title>Sizzling Search Strategies for Lower and Middle School</dc:title>
</cp:coreProperties>
</file>